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F1732B74-258C-451C-9067-7AEBC9DBB684}" type="datetime">
              <a:rPr b="0" lang="es-ES" sz="13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3FFF49AB-C047-4B69-8388-BA35C8BD6B8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37076E29-13E1-4035-A7B4-5B303A4AC4F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2BE70626-4909-4530-A0F2-6FF77BB3F8F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FD995A15-EE57-4E97-BDCB-264056C7FA9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1516-190D-4BDB-ADEC-72F9CF9BE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80E2-F07B-4F3F-8591-2B76F744A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0EBB-9009-4422-94A1-E07A394F4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2CE4-B627-4759-BE2F-A168A2EB6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6124-D5C7-4CA4-BC86-593A93F90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F80B0-F84D-4D37-BE98-0B22F956A0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5DC65-D4D2-4A59-919D-5E8BDB8A32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5F058-E52E-480A-B751-84902C2FC0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743B8-09F7-4FA4-A561-C8DE73BA0D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CDBC3-6A1B-4EB6-8D11-D85B02994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166B-23D5-4AE2-8031-DCB8BBB0C4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90764-3B45-42A3-BCA1-402255450D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961D6-D316-42A4-A566-17CAAD4A6D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42430-0E98-4A66-9241-582546C141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8B3F0-A91A-463B-A049-6652266E24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8FECD-4027-4221-BBE7-892CEECD48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92F0D-6D8D-48A5-AFA7-6AA9B688AF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89922-2EED-4D6A-8404-ECCF58B9C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7CB2-F069-49E8-91DC-E22055BDC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5FCB-FF51-4E3E-8EBE-21DD5C5E1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F8F2-AE1E-40B5-8387-6B201B017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765F-FDCA-4B52-AE0C-2EA2D7967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5628-2FBC-428D-AAA0-1B4218DC1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45E2-B9CC-4F1B-9ED7-E73CAFFE0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4680" y="6207120"/>
            <a:ext cx="2047680" cy="658800"/>
          </a:xfrm>
          <a:custGeom>
            <a:avLst/>
            <a:gdLst/>
            <a:ahLst/>
            <a:rect l="l" t="t" r="r" b="b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4680" y="6207120"/>
            <a:ext cx="9145440" cy="65880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55880" y="6362280"/>
            <a:ext cx="6286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ECS: Climate Predictions for Climate Services   CCCS Meeting 28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74400" y="6348960"/>
            <a:ext cx="35640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6CB35-6A42-4F71-BF33-C2B42FAFECD4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58680" y="250920"/>
            <a:ext cx="1706760" cy="557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images"/>
          <p:cNvPicPr/>
          <p:nvPr/>
        </p:nvPicPr>
        <p:blipFill>
          <a:blip r:embed="rId3"/>
          <a:stretch/>
        </p:blipFill>
        <p:spPr>
          <a:xfrm>
            <a:off x="8211960" y="184320"/>
            <a:ext cx="9064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Forma libre 11"/>
          <p:cNvSpPr/>
          <p:nvPr/>
        </p:nvSpPr>
        <p:spPr>
          <a:xfrm>
            <a:off x="3008160" y="5952960"/>
            <a:ext cx="6039000" cy="808200"/>
          </a:xfrm>
          <a:custGeom>
            <a:avLst/>
            <a:gdLst/>
            <a:ahLst/>
            <a:rect l="l" t="t" r="r" b="b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Imagen 17" descr="IC3_Logo_Vector.png"/>
          <p:cNvPicPr/>
          <p:nvPr/>
        </p:nvPicPr>
        <p:blipFill>
          <a:blip r:embed="rId2"/>
          <a:stretch/>
        </p:blipFill>
        <p:spPr>
          <a:xfrm>
            <a:off x="7899480" y="5952960"/>
            <a:ext cx="1198440" cy="80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ight Triangle 1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ight Triangle 17"/>
          <p:cNvSpPr/>
          <p:nvPr/>
        </p:nvSpPr>
        <p:spPr>
          <a:xfrm rot="5400000">
            <a:off x="434160" y="-434160"/>
            <a:ext cx="6858000" cy="772632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3032280" y="6284520"/>
            <a:ext cx="520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34342"/>
                </a:solidFill>
                <a:latin typeface="Times New Roman"/>
              </a:rPr>
              <a:t>SPECS: Climate Predictions for Climate Services</a:t>
            </a: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   CCCS Meeting 29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9808D-91B4-4568-B676-758988D35440}" type="slidenum">
              <a:rPr b="0" lang="es-E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imate4impact.eu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572000" y="991080"/>
            <a:ext cx="447516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EC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ediction for Climate Servi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SPECS Logo Final Proposal"/>
          <p:cNvPicPr/>
          <p:nvPr/>
        </p:nvPicPr>
        <p:blipFill>
          <a:blip r:embed="rId1"/>
          <a:stretch/>
        </p:blipFill>
        <p:spPr>
          <a:xfrm>
            <a:off x="3456000" y="5919840"/>
            <a:ext cx="1684440" cy="7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Crea_Pantone verd rgb"/>
          <p:cNvPicPr/>
          <p:nvPr/>
        </p:nvPicPr>
        <p:blipFill>
          <a:blip r:embed="rId2"/>
          <a:srcRect l="12951" t="0" r="12951" b="40404"/>
          <a:stretch/>
        </p:blipFill>
        <p:spPr>
          <a:xfrm>
            <a:off x="6897600" y="6170760"/>
            <a:ext cx="1036800" cy="320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2843280" y="4372920"/>
            <a:ext cx="62625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J. Doblas-Rey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CREA, IC3 and BSC-CNS, Barcelona, Spai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7" descr="logo_BSC2"/>
          <p:cNvPicPr/>
          <p:nvPr/>
        </p:nvPicPr>
        <p:blipFill>
          <a:blip r:embed="rId3"/>
          <a:srcRect l="0" t="0" r="23921" b="50080"/>
          <a:stretch/>
        </p:blipFill>
        <p:spPr>
          <a:xfrm>
            <a:off x="5900760" y="5969160"/>
            <a:ext cx="917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-driven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34920" y="898560"/>
            <a:ext cx="90536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diagrams of initialised MME for left) basin-wide ACE and centre) U.S. ACE and right) uninitalised MME U.S. ACE 1-5 year forecasts for anomalies above the mean over 1961-2009. Statistically significant values are in bol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-200520" y="5840280"/>
            <a:ext cx="297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on et al. (GRL, 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9" name="1 Imagen" descr=""/>
          <p:cNvPicPr/>
          <p:nvPr/>
        </p:nvPicPr>
        <p:blipFill>
          <a:blip r:embed="rId1"/>
          <a:stretch/>
        </p:blipFill>
        <p:spPr>
          <a:xfrm>
            <a:off x="272880" y="3029040"/>
            <a:ext cx="5840640" cy="2498760"/>
          </a:xfrm>
          <a:prstGeom prst="rect">
            <a:avLst/>
          </a:prstGeom>
          <a:ln w="0">
            <a:noFill/>
          </a:ln>
        </p:spPr>
      </p:pic>
      <p:pic>
        <p:nvPicPr>
          <p:cNvPr id="200" name="5 Imagen" descr=""/>
          <p:cNvPicPr/>
          <p:nvPr/>
        </p:nvPicPr>
        <p:blipFill>
          <a:blip r:embed="rId2"/>
          <a:stretch/>
        </p:blipFill>
        <p:spPr>
          <a:xfrm>
            <a:off x="5973840" y="3097080"/>
            <a:ext cx="2927160" cy="246852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42646-D2D1-4606-9274-03CAE19580CF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driven sc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287280" y="1405080"/>
            <a:ext cx="37004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s on wind-energy potential produced in collaboration with EUPORIAS where both science and user requests meet in a single documen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48B32-B9D3-4217-A605-DDD731CD895F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362480" y="860400"/>
            <a:ext cx="3821040" cy="52941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5099040" y="1619280"/>
            <a:ext cx="33984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525600" y="1392120"/>
            <a:ext cx="8089920" cy="4415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driven port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741D4-C240-4BFC-8BDD-B974F9B9CB5F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34920" y="898560"/>
            <a:ext cx="9053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s://giotto.casaccia.enea.it/specs-solar/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-205560" y="5840280"/>
            <a:ext cx="402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Felice et al. (Appl. Energy, 2014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6B749-DBA3-4D76-9E8E-C49D9171169A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ised data repository at BADC with files using a convention building on both CMIP5 and CHFP and that is expected to become the basis for CMIP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ublished on the ESG after quality control reachable by other SPECS-related services (ECOMS UDG, Climate Explorer, et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sensitivity experiments and NMME data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5" descr="33"/>
          <p:cNvPicPr/>
          <p:nvPr/>
        </p:nvPicPr>
        <p:blipFill>
          <a:blip r:embed="rId1"/>
          <a:srcRect l="11116" t="19143" r="11116" b="10939"/>
          <a:stretch/>
        </p:blipFill>
        <p:spPr>
          <a:xfrm>
            <a:off x="1046160" y="2881440"/>
            <a:ext cx="7050240" cy="322092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7366B-D4F7-4789-B014-D86BBBC73DF0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CS data are now visible from the Climate4impact portal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Verdana"/>
                <a:hlinkClick r:id="rId1"/>
              </a:rPr>
              <a:t>http://climate4impact.e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ts of work still missing: e.g. use cases and processing demonstration video for climate predi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ownstream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1 Imagen" descr=""/>
          <p:cNvPicPr/>
          <p:nvPr/>
        </p:nvPicPr>
        <p:blipFill>
          <a:blip r:embed="rId2"/>
          <a:stretch/>
        </p:blipFill>
        <p:spPr>
          <a:xfrm>
            <a:off x="895320" y="2160720"/>
            <a:ext cx="7373880" cy="3990960"/>
          </a:xfrm>
          <a:prstGeom prst="rect">
            <a:avLst/>
          </a:prstGeom>
          <a:ln w="0">
            <a:noFill/>
          </a:ln>
        </p:spPr>
      </p:pic>
      <p:sp>
        <p:nvSpPr>
          <p:cNvPr id="22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151D8-321E-4CB5-BDE4-BAD89AE63566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on tools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00"/>
          <p:cNvPicPr/>
          <p:nvPr/>
        </p:nvPicPr>
        <p:blipFill>
          <a:blip r:embed="rId1"/>
          <a:srcRect l="20920" t="22564" r="2324" b="2821"/>
          <a:stretch/>
        </p:blipFill>
        <p:spPr>
          <a:xfrm>
            <a:off x="1274760" y="831960"/>
            <a:ext cx="6541920" cy="524016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Text Box 9"/>
          <p:cNvSpPr/>
          <p:nvPr/>
        </p:nvSpPr>
        <p:spPr>
          <a:xfrm rot="19714800">
            <a:off x="328320" y="301572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</a:rPr>
              <a:t>All these functions and packages are publicly available without restric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91E04-FF44-4B73-BA18-7B7C6D1A4468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eries of fact sheets has been created (available from the SPECS web site). Common vocabulary with EUPORIAS, targeting a wide audience, mimicking some material already existing to explain what climate change 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1 Imagen" descr=""/>
          <p:cNvPicPr/>
          <p:nvPr/>
        </p:nvPicPr>
        <p:blipFill>
          <a:blip r:embed="rId1"/>
          <a:stretch/>
        </p:blipFill>
        <p:spPr>
          <a:xfrm>
            <a:off x="1884240" y="1833480"/>
            <a:ext cx="5372280" cy="4324320"/>
          </a:xfrm>
          <a:prstGeom prst="rect">
            <a:avLst/>
          </a:prstGeom>
          <a:ln w="0">
            <a:noFill/>
          </a:ln>
        </p:spPr>
      </p:pic>
      <p:sp>
        <p:nvSpPr>
          <p:cNvPr id="23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16D37-BC99-4465-94DA-B3F845D6E272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imate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ion from initial-value problems with weather forecasting at one end and multi-decadal to century projections as a forced boundary condition problem at the other, with climate prediction (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ub-seasonal, seasonal and decad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n the middle. Prediction involves initialization and systematic comparison with a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imultaneou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fer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-211680" y="5840280"/>
            <a:ext cx="372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apted from Meehl et al. (2009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22120" y="2889360"/>
            <a:ext cx="8686800" cy="2898720"/>
            <a:chOff x="222120" y="2889360"/>
            <a:chExt cx="8686800" cy="2898720"/>
          </a:xfrm>
        </p:grpSpPr>
        <p:sp>
          <p:nvSpPr>
            <p:cNvPr id="145" name="Rectangle 6"/>
            <p:cNvSpPr/>
            <p:nvPr/>
          </p:nvSpPr>
          <p:spPr>
            <a:xfrm>
              <a:off x="1526760" y="2935440"/>
              <a:ext cx="4635720" cy="2852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66400" y="4284720"/>
              <a:ext cx="805644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 rot="10800000">
              <a:off x="1166400" y="5049360"/>
              <a:ext cx="75168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>
              <a:off x="266400" y="3970440"/>
              <a:ext cx="8507520" cy="4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312480" y="446400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Initial-value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5036760" y="527544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Boundary-condition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7650000" y="405936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22120" y="3340080"/>
              <a:ext cx="125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Weather forecast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572840" y="2889360"/>
              <a:ext cx="2384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Subseasonal to seasonal forecasts (2 weeks-18 month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3958920" y="3114720"/>
              <a:ext cx="224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Decadal forecasts (18 months-30 year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6252840" y="3384720"/>
              <a:ext cx="22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Climate-change projection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58680" y="914400"/>
            <a:ext cx="902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mean near-surface air temperature over the ocean (one-year running mean applied) from CMIP5 hindcasts. Each system is shown with a different colour. NCEP and ERA40/Int used as refere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96a1b"/>
                </a:solidFill>
                <a:latin typeface="Verdana"/>
              </a:rPr>
              <a:t>Examples of shock, drift and large systematic error can be fou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8" name="Picture 5" descr="figure_AR5_11_5_final"/>
          <p:cNvPicPr/>
          <p:nvPr/>
        </p:nvPicPr>
        <p:blipFill>
          <a:blip r:embed="rId1"/>
          <a:srcRect l="0" t="3415" r="0" b="47820"/>
          <a:stretch/>
        </p:blipFill>
        <p:spPr>
          <a:xfrm>
            <a:off x="1933560" y="2279520"/>
            <a:ext cx="5264280" cy="3935520"/>
          </a:xfrm>
          <a:prstGeom prst="rect">
            <a:avLst/>
          </a:prstGeom>
          <a:ln w="0">
            <a:noFill/>
          </a:ln>
        </p:spPr>
      </p:pic>
      <p:sp>
        <p:nvSpPr>
          <p:cNvPr id="159" name="Title 2"/>
          <p:cNvSpPr/>
          <p:nvPr/>
        </p:nvSpPr>
        <p:spPr>
          <a:xfrm>
            <a:off x="65232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adal forecasts in CMIP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-232560" y="5880240"/>
            <a:ext cx="279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PCC AR5 WGI (201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61" name="2 Conector recto de flecha"/>
          <p:cNvCxnSpPr/>
          <p:nvPr/>
        </p:nvCxnSpPr>
        <p:spPr>
          <a:xfrm>
            <a:off x="2646000" y="3131640"/>
            <a:ext cx="370440" cy="1080"/>
          </a:xfrm>
          <a:prstGeom prst="straightConnector1">
            <a:avLst/>
          </a:prstGeom>
          <a:ln w="38160">
            <a:solidFill>
              <a:srgbClr val="76787b"/>
            </a:solidFill>
            <a:miter/>
            <a:headEnd len="med" type="arrow" w="med"/>
            <a:tailEnd len="med" type="arrow" w="med"/>
          </a:ln>
        </p:spPr>
      </p:cxnSp>
      <p:sp>
        <p:nvSpPr>
          <p:cNvPr id="162" name="4 CuadroTexto"/>
          <p:cNvSpPr/>
          <p:nvPr/>
        </p:nvSpPr>
        <p:spPr>
          <a:xfrm>
            <a:off x="2492280" y="27957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-5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6A8C3-D6AE-4E72-A0FB-0A0DA9871246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5CFD5-6AE1-4D2A-BEE5-BE1A062156A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produce quasi-operational and actionable local climat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eed information with improved forecast quality, a focus on extreme climate events and enhanced communication and services for RCOFs, NHMSs and a wide range of public and private stake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ith a new generation of reliable European climate forecast systems, including initialised ESMs, efficient regionalisation tools and combination methods, and an enhanced dissemination and communication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ver land, focus on Europe, Africa,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asonal-to-decadal time scales over the longest possible observational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ttp://www.specs-fp7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4B72B-5E88-4729-9FBB-4153AABDEF9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: Overa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rcRect l="8301" t="14173" r="9684" b="7349"/>
          <a:stretch/>
        </p:blipFill>
        <p:spPr>
          <a:xfrm>
            <a:off x="44280" y="1241280"/>
            <a:ext cx="906156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31760" y="896760"/>
            <a:ext cx="8872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ks to EUPORIAS/NACLIM, but also IS-ENES2, PREFACE, EUCLEIA, CLIPC,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Text Box 9"/>
          <p:cNvSpPr/>
          <p:nvPr/>
        </p:nvSpPr>
        <p:spPr>
          <a:xfrm rot="19714800">
            <a:off x="189720" y="278964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</a:rPr>
              <a:t>Climate data is not climate informa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NRM-CM’s correlation for ensemble-mean predictions of DJF (one-month lead time) tropical precipitation, Northern Hemisphere Z500 and NAO as a function of the ensemble size. Red lines for 90% confidence interv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hortcuts: ensemble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annuel2014b-figa"/>
          <p:cNvPicPr/>
          <p:nvPr/>
        </p:nvPicPr>
        <p:blipFill>
          <a:blip r:embed="rId1"/>
          <a:stretch/>
        </p:blipFill>
        <p:spPr>
          <a:xfrm>
            <a:off x="384120" y="1714680"/>
            <a:ext cx="8345520" cy="4270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-289440" y="5894280"/>
            <a:ext cx="3087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. Déqué (Météo-France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6E851-DE45-4AE9-9DBC-BDA8FC91B0D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7D162-29F1-4156-8CB8-717AAD068B3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41785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ical forecasts of one-month lead temperature (right panel) and precipitation using a wide range of observed predi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ised empirical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-259560" y="5880240"/>
            <a:ext cx="29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den et al. (GMD, 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640" y="3890880"/>
            <a:ext cx="4294080" cy="197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4222800" y="1095480"/>
            <a:ext cx="4867200" cy="5067360"/>
          </a:xfrm>
          <a:prstGeom prst="rect">
            <a:avLst/>
          </a:prstGeom>
          <a:ln w="0">
            <a:noFill/>
          </a:ln>
        </p:spPr>
      </p:pic>
      <p:sp>
        <p:nvSpPr>
          <p:cNvPr id="18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BAF87-FE4A-4474-AB1D-8501A9A8AA4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 SPECS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most 100 papers published or in p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s of coordinated prediction experi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s of terabytes of data available from BAD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13970-30CC-4168-88A7-1591287D94F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beyond usual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onvention defined for climate predictions to be full part of other climate data dissemination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imate prediction fact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ibution to portals, b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 beyond portals, focus on APIs (made public also for commercial purpo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xpert judgement cannot be made automatic in a forecast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45:56Z</dcterms:created>
  <dc:creator>Franziska Ewald de Aceves</dc:creator>
  <dc:description/>
  <dc:language>en-US</dc:language>
  <cp:lastModifiedBy>bscuser</cp:lastModifiedBy>
  <dcterms:modified xsi:type="dcterms:W3CDTF">2016-02-15T13:44:40Z</dcterms:modified>
  <cp:revision>465</cp:revision>
  <dc:subject/>
  <dc:title>Presentación de PowerPoint</dc:title>
</cp:coreProperties>
</file>